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332665"/>
        <c:axId val="63708622"/>
      </c:barChart>
      <c:catAx>
        <c:axId val="683326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08622"/>
        <c:crosses val="autoZero"/>
        <c:auto val="1"/>
        <c:lblAlgn val="ctr"/>
        <c:lblOffset val="100"/>
        <c:noMultiLvlLbl val="0"/>
      </c:catAx>
      <c:valAx>
        <c:axId val="637086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3326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8C98-5BC3-48F7-8024-5291CA440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8C1A-7FC0-4BD5-B3BA-A2638942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4E3A-94A2-4BFC-8C05-F1C543EAA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86C3-B116-4439-9A70-0501C45FC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9B39-A8CF-428C-8E8F-B1933D47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99BF-5F06-41A3-B077-0A01F4AB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80EA-5824-45D2-966D-C94663CE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DFBA-5135-4DD9-A5F1-6858B346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17C0-FED3-4186-BD92-674B3B4C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848B-CED3-462F-A9D2-6E94F66C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2BE6-3EE6-4CE7-AF0B-A9A5C402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6CBF-0558-4A1F-BB2A-2303E203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6AD66-C02C-4033-9868-4ABCEEA317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