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607"/>
        <c:axId val="88386881"/>
      </c:barChart>
      <c:catAx>
        <c:axId val="767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86881"/>
        <c:crosses val="autoZero"/>
        <c:auto val="1"/>
        <c:lblAlgn val="ctr"/>
        <c:lblOffset val="100"/>
        <c:noMultiLvlLbl val="0"/>
      </c:catAx>
      <c:valAx>
        <c:axId val="88386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D54-EB02-4ED1-B72A-F27106C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3D8-9CCB-4B99-948B-3C3DC84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16D-D989-41C6-A21E-314232C1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D12-594F-40B5-A7BF-428BFB92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3E9-52D2-4AC3-A1B5-7157AC9B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D6C-9ADC-40D0-95F2-6F271E26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F1B-3B20-456F-AD21-1F2BF04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ED6-58AD-42DF-BEF1-713F1270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71E-55A2-496B-A57E-2E990481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603-51DD-40C2-B95E-F19E7ED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989-9757-4072-8D07-38CD8F9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DB6-108F-4BA9-8B0E-9DB76FA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AF1D-07F3-47DE-B3D3-EDE46DD066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